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ED3-4D2E-4B64-AAC5-0CDC83F9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67B-1B09-4E2C-82D4-C73B4089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812-52EE-41DD-880B-15E204FF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921-C669-4DC5-92D0-85609235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6D10-3422-41E5-86AC-3FBD5BCF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A66E-5269-4F8F-9376-7E275A3F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250D-82E9-4852-8437-2DACE0F9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98BD-1C94-47EE-95FB-99615EE6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FC55-60DC-4487-86C2-39F3B34E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5968-03D9-4327-BFBA-735DA4C8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2B74-B799-440B-A711-E5BA4E2A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ED3-E7D4-45EC-B881-30170FA2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202E-63EC-47CD-8F9B-57DB7319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27DC-F881-4DCF-BFB0-9049FF0E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DF81-DDD4-4814-A504-315A9B07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20C2-B55E-4A8F-950A-93CBDCF7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1430-D97E-4E30-A73C-25C2EF9F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67553-CF5D-499D-A550-B857E931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C02FD-4848-454B-B7AB-28F767DC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16197-F1A0-4CB7-82F0-9A8E4B6E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7B92A-BA4D-4E97-ACF6-A6B013B7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E4AE1-AB4A-4567-B4D6-59D94F16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644-DB98-4515-9E7C-A4579D32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B91C8-59AE-44BF-A8FB-0A65A39E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15F58-3D5F-4142-87BA-9FD928B6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A5A09-7749-499F-A4B4-3213AFD9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DD2D8-E359-40DC-B21A-10E0E741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3B878-0B72-48E0-B02F-EFC5C998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95E42-3291-4032-8659-0F909165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831E-CC12-4CAB-9AF5-36B62ABB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8638F-1C98-4C1B-B52A-F9513365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19CF7-A442-42EB-A101-DB516684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B3A58-0B3D-4A6C-997D-113C5342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F6C-FE38-42A3-A751-E96BD8B2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D12C4-F524-43B1-987A-EAD52A6E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B2189-3832-4315-92EB-700141B6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06CC6-AA82-41D2-85F3-5FA901D0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AE581-98FB-4078-BB2B-26FF529D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D70F3-739B-4D03-9DC7-75047A67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FB125-DC3C-470E-A025-7015F2AD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38E2C-35BA-4D99-88E7-BF7BBB82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B6637-2C6E-49FB-BC5D-E25DE0EB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182FF-80B4-45A9-AAFE-E5C197CD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5F405-E1BB-4DC8-92F1-0659FB85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E3D-80C5-4D7E-8127-F0288268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2333D-9D7F-4960-A3F2-2EE523BE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870EF-BB9C-49B1-86B5-282A2BFC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789D7-2F25-4CC2-AC53-8C73978E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7AF37-DE53-4525-914F-20091581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90B26-D4E8-45A7-919E-4D3679BC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266FF-21BA-4ED4-9B20-709973DD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125AA-771E-41F7-BFE8-FD277610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B3C81-8299-43F9-9119-0A27645A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58B39-861C-4D90-99D8-18C18650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A6C25-A1C2-485C-A9AC-77321D7D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613-2EC1-46B6-9269-9C748C99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0C2D7-ADFE-43CD-B47C-C728207B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71EA3-DD73-46CB-A8BD-9EE8A422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19E9B-625F-4CF1-A3F4-FBFDEF76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9835B-34FD-46B4-9C6D-A651B72D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F7F6F-9E21-4A1D-842A-BBDDBA0E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040B0-A19B-40E3-AA01-A12DCCB5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4CD22-84DF-402E-AE0E-2F83937B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E66AD-13E5-4A90-95C3-E836905A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4AC7A-430C-4855-AA3D-934CE21E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75286-1DD3-4206-8EBC-29BA1E3B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E0FA-B850-420B-AA40-BA5BDC5C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21EA0-7C3B-48EA-8D2E-7916E328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B1EA3-3DF7-4854-A32B-EE2E09FC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88844-3023-476E-A7E8-A4734D43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6986C-CA79-4EB9-81BE-931F6FBF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16199-4203-40FE-82BA-AB6BBABD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0FE0A-EFA7-4C09-B5E5-0B657562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A4F5A-1E82-4FA1-BF62-CDBF1FE4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3FB28-E371-4895-A8F5-29B33423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B8043-878E-4496-A83E-9ADF0818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58287-2113-402E-BEC8-85DFF526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302-353B-49A3-84B7-9ADFFCF8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262E3-54F0-458F-863E-7405AA73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B28F4-7639-4E3F-A3FB-9FD4EA07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FBB1E-C793-42DC-A60F-4328F401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69B1E-3138-4E08-A5C1-C09AB219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43EEF-3B77-414C-99CC-4ECA6CD1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AA3A-CFB4-4184-9ACF-5B09B296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C0ED-1137-4FEC-B0AB-DE8AD8E1A05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3577-62B4-438C-BC68-F76C0508A16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848F-6E57-4D25-9F78-2F95E19D8F30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AE35-48DE-44B1-B765-7155BEC7C87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2917-7A08-4A77-B62A-2AFD94780A9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D34B-FE5B-41B1-80DE-AD6C0209B2C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9E96-FA75-4701-8173-AC90ABB255A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lease sit by grad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ke yourself a name tag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gin sharing your implementation stori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2428920" y="1982880"/>
            <a:ext cx="42861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ubsystems/Nested Syste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oundari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puts/Outpu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low/Counterflo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"/>
          <p:cNvGraphicFramePr/>
          <p:nvPr/>
        </p:nvGraphicFramePr>
        <p:xfrm>
          <a:off x="1143000" y="1676520"/>
          <a:ext cx="6545160" cy="4800600"/>
        </p:xfrm>
        <a:graphic>
          <a:graphicData uri="http://schemas.openxmlformats.org/drawingml/2006/table">
            <a:tbl>
              <a:tblPr/>
              <a:tblGrid>
                <a:gridCol w="2181240"/>
                <a:gridCol w="2182680"/>
                <a:gridCol w="2181240"/>
              </a:tblGrid>
              <a:tr h="501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mosp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sp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7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sp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sp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8" name="Picture 1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3581280" cy="356544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ome basic elements of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 true STEM education should increase students’ understanding of how things work and improve their use of technologie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 algn="r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Bybe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 algn="r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e: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ttp://csusciencemethods.wikispaces.com/file/view/Bybee+2010+STEM+education.pdf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cience, Technology, Engineering, Mat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disciplinary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ine Mod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isy Mod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ose Mod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“plant metaphor” is not as important as the idea that the intention is to be highly integrativ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ve – Based on asymmetries of expertis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5181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rom “Understanding Science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http://undsci.berkeley.edu/article/0_0_0/whatisscience_03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5208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application of science is any use of scientific knowledge for a specific purpose, whether to do more science; to design a product, process, or medical treatment; to develop a new technology; or to predict the impacts of human action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ramework for K-12 Science Education, Ch.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chnology is any modification of the natural world made to fulfill human needs or desir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ramework for K-12 Science Education, Ch.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gineering is a systematic and often iterative approach to designing objects, processes, and systems to meet human needs and wan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ramework for K-12 Science Education, Ch.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48769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4:14:21Z</dcterms:created>
  <dc:creator>Information  Technology</dc:creator>
  <dc:description/>
  <dc:language>en-US</dc:language>
  <cp:lastModifiedBy>Administrator</cp:lastModifiedBy>
  <dcterms:modified xsi:type="dcterms:W3CDTF">2011-10-10T16:20:44Z</dcterms:modified>
  <cp:revision>294</cp:revision>
  <dc:subject/>
  <dc:title>STEM Instruction</dc:title>
</cp:coreProperties>
</file>